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bomb.wav" ContentType="audio/x-wav"/>
  <Override PartName="/ppt/media/image7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C63-555E-4C60-8627-DC26DE4D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8A1-209B-4AB1-90BE-440B395D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6B5-4F32-44F8-A7A0-56C42CB0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545-6932-45F3-B3E3-3ACF03D2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7E0A-5F95-4CF9-B55E-F04AA26E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7E24-480B-4142-885C-128768F9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41B-4747-4309-B785-FAB148D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F940-D562-4043-B347-430EF4F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37A-1686-4FE5-9815-E1843FB6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584-1F76-4741-80B0-91A5FC43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BCE-C3D5-4425-849A-5C96928E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41A-A4D0-40E2-ADB4-94CE208F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CBC4-BBDB-4603-86EC-D1F8762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8573-8FEB-473A-BF74-F7A3584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420-E34B-4345-BA82-D72FE86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3F3D-3593-438C-8593-BB1385D1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0075-687E-48DB-849B-90637EB0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D1E3-FEA9-4619-9B12-89E19B02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9706-B197-4202-AA26-832E7074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FF2C-5A21-4D84-BAF7-9C16D94E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A3F1-4E6B-49B1-847F-365BDC9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C3A7-D981-4857-821E-0D9FF804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495-8BAD-4653-92C6-2EC1A5B2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55E1-CCB4-4B59-906B-B8E11793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43F6-D9DE-4D26-A059-073EB90A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EB05-8A0F-4A0B-862F-45B17C5B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7D65-2F94-4CF3-A156-2B1F79E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8029-C163-4CA0-8E37-6F44D2C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F729-EF28-4D61-B235-77DE495D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1F33-E94F-425B-B3CC-04C332C5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8FAC-D0F5-4A38-A415-800B85B3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7481-B20E-4119-B4DF-A925C57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A97B-B99A-4477-B614-A545534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2C6-E054-4112-801D-FD30E86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C141-60B5-4A08-8A1C-C489BA5E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C1A5-379A-4A8D-863B-35E3E343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A211-6040-4C8F-8BF7-B6C68FF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1575-DE35-4597-AC39-E9A28A0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A705-2F48-4B0B-AF76-40C4D09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8070-EDAA-4706-AE76-0FC9F95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AC0B-4A48-4F92-ACF2-233EAA57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2617-7E9C-4A95-91C0-982E851A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1EDB-EEC6-47B6-BF17-502D3052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0763-E0D6-43C6-921E-4289A4FD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D16-7C67-4E9C-92B1-0CF691BC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90AB-0113-4A32-B9F5-A905712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29B3-F409-40B5-B3ED-8BBC4F04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47C7-E2FA-4302-882A-87A94DC3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5846-8001-45F7-92CE-7EACE623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3C21-D4C9-487B-9FAF-519C6AE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C927-AD16-414A-A7FF-7E4075D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C4199-350B-4A62-B715-3D6FFF4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81E8-19D3-4476-87A8-27E845A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207E-2CFB-49E1-9D8F-E098F69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A54C-C7F7-48F6-A066-17C4B254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C43-DAAE-444A-B1FB-5E0DF7E1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3782-0D73-4C83-B93D-AF66B506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723-CE80-47F3-A408-71506728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182-1A63-4154-ABDA-9841A2B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4F1-D171-4DF4-A683-D81AE66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ACEA-68BA-412E-8D27-B9E9A01F31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13BC-8FF4-477C-8C93-6BC149BE7BC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D61C-C75C-42AA-9840-20CD26F0DAE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6BB-5669-4191-B37A-E8772724720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E427-1C63-4D4C-BB3E-69063FBB02F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bomb.wav" TargetMode="External"/><Relationship Id="rId3" Type="http://schemas.microsoft.com/office/2007/relationships/media" Target="file:///tmp/home/.config/libreoffice/4/user/gallery/bomb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Ravie"/>
              </a:rPr>
              <a:t>Rainforest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Ravie"/>
              </a:rPr>
              <a:t>By JONATHAN AND ELOY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2" descr="C:\Documents and Settings\2014897\Local Settings\Temporary Internet Files\Content.IE5\BFKGQQB1\MP900401113[1].jpg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4200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0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Table of cont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king co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Vampire b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Bengal ti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Pink dolph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Kapok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Dur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Bengal Bamb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Food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KING COBR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IT is found near rivers and swampy  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King cobra can grow up to 12-18 f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ir fangs can grow a ½ in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y lay 18-50 egg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It’s diet is rats and little anim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6" descr="http://1.bp.blogspot.com/_MLxiBMONdQY/SNSaQfGlIvI/AAAAAAAAJJw/MXUEYqd_Qto/s400/cobra2-430.jpg"/>
          <p:cNvPicPr/>
          <p:nvPr/>
        </p:nvPicPr>
        <p:blipFill>
          <a:blip r:embed="rId1"/>
          <a:stretch/>
        </p:blipFill>
        <p:spPr>
          <a:xfrm>
            <a:off x="5562720" y="3657600"/>
            <a:ext cx="2762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Vampire B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533520"/>
            <a:ext cx="8763120" cy="418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vampire Bat eats Blo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It has a wingspan about 8 inches 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vampire bat is a nocturnal anim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Vampire Bat uses echeolo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When the Vampire Bat sleeps it sleeps ha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http://a-z-animals.com/media/animals/images/original/vampire_bat4.jpg"/>
          <p:cNvPicPr/>
          <p:nvPr/>
        </p:nvPicPr>
        <p:blipFill>
          <a:blip r:embed="rId1"/>
          <a:stretch/>
        </p:blipFill>
        <p:spPr>
          <a:xfrm>
            <a:off x="3809880" y="3352680"/>
            <a:ext cx="4848480" cy="303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Bengal Ti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http://assets.panda.org/img/bengal_tiger_112597_234481.jpg"/>
          <p:cNvPicPr/>
          <p:nvPr/>
        </p:nvPicPr>
        <p:blipFill>
          <a:blip r:embed="rId1"/>
          <a:stretch/>
        </p:blipFill>
        <p:spPr>
          <a:xfrm>
            <a:off x="533520" y="609480"/>
            <a:ext cx="3932280" cy="3276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756320" y="911160"/>
            <a:ext cx="3930480" cy="533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Bengal is a carnivorous a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weight of the Bengal tiger is 575 pou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It eats boars, wild oxen, and monke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Bengal tiger can get up to 10 feet long and 3 feet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Bengal tiger is a endangered a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Snap ITC"/>
                <a:ea typeface="MS Mincho"/>
              </a:rPr>
              <a:t>Pink Dolphi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Content Placeholder 4" descr="Pink Dolphin.jpg"/>
          <p:cNvPicPr/>
          <p:nvPr/>
        </p:nvPicPr>
        <p:blipFill>
          <a:blip r:embed="rId1"/>
          <a:stretch/>
        </p:blipFill>
        <p:spPr>
          <a:xfrm>
            <a:off x="457200" y="380880"/>
            <a:ext cx="4100400" cy="4299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0" y="4575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pink dolphin is flexi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can weigh 300 p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uses echoloc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doesn't have a pointed fin on the bac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eats f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Snap ITC"/>
              </a:rPr>
              <a:t>Kapok Tre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Content Placeholder 4" descr="kapok_tree_print-p228855614253357718t5wm_400.jpg"/>
          <p:cNvPicPr/>
          <p:nvPr/>
        </p:nvPicPr>
        <p:blipFill>
          <a:blip r:embed="rId1"/>
          <a:stretch/>
        </p:blipFill>
        <p:spPr>
          <a:xfrm>
            <a:off x="514440" y="1251000"/>
            <a:ext cx="3932280" cy="2948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756320" y="529920"/>
            <a:ext cx="3930480" cy="5337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can grow to a   100 feet or m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straight trunk is cylindric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giant can extend to 30 fe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wood is a pinkish white to ashy br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branches grow horizontal ti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14440" y="863640"/>
            <a:ext cx="76388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1:25:52Z</dcterms:created>
  <dc:creator>user</dc:creator>
  <dc:description/>
  <dc:language>en-US</dc:language>
  <cp:lastModifiedBy>user</cp:lastModifiedBy>
  <dcterms:modified xsi:type="dcterms:W3CDTF">2011-03-24T21:39:57Z</dcterms:modified>
  <cp:revision>26</cp:revision>
  <dc:subject/>
  <dc:title>Rainforest By JONATHAN AND ELOY</dc:title>
</cp:coreProperties>
</file>